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74343"/>
        <c:axId val="22263881"/>
      </c:barChart>
      <c:catAx>
        <c:axId val="66774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3881"/>
        <c:crosses val="autoZero"/>
        <c:auto val="1"/>
        <c:lblAlgn val="ctr"/>
        <c:lblOffset val="100"/>
        <c:noMultiLvlLbl val="0"/>
      </c:catAx>
      <c:valAx>
        <c:axId val="22263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4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DE2-BFF6-4C1C-9845-433E376C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C65-89D9-4DFA-813D-32EB853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5D7-32AB-48A4-905B-A3C00854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C12-2E9B-4A11-82E4-102F0906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0DB-5C38-4B83-B622-C5EB622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E11F-3FF3-4972-BEAB-4B26FB9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8EE-F226-4A9A-896E-3D25458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44C-A9DD-4D79-B982-3667B131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609-58F1-45AE-B7E9-F92F1079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ED8-2EC5-4922-B1EC-34C67EA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98B-049F-4E07-82E0-7AFF3876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FA4-0481-461E-9AE7-7421C3B3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0CEC-8FD3-4243-B396-186F12BB4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